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D361-3209-46C1-A7FC-2E9A0B860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C8D2-88AE-4CA7-A352-60C815602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184B-8F8B-4AEA-B802-D356A0AB7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8BE1-8C51-433E-B2B0-AA5084338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E0E50-0463-4300-A490-FFFAE376E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950FB-FB65-4BC1-A1FC-8A55BDEFD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21EE3-37E6-4278-92CD-F0B8B4A78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AC650-3F63-4796-873B-9625C4722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F8326-F7A3-49F2-8596-27AB2008C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41EB5-1083-4CFC-B177-6B033487A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BDB9E-CCF5-4C09-A393-EF87BD3E9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C2AB-5181-4386-B9D4-64DA7C541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2D997-8818-4906-9746-DEC70B2B2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B0E85-6353-4315-BEFF-D83B45639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B8B9A-43C1-43F3-B3A2-22B67EEAA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59891-3FAA-4E10-B4CD-8CBB6E602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35498-C3AB-4A6E-8E93-C4552A774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6F99-A2AF-4E47-8EC2-181495424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0CE1-1E41-48EB-8C58-3EC7BAE84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BC86-E6BD-41CF-83E1-D57FA3240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B75A-CF4A-4D00-85EF-0B42ADE14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3C23-F2C2-4E9B-86AB-20A080B27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8391-6604-4A7C-BDFC-E3B10A3CF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35E5-980B-48C6-ADD7-E04449246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06F8C-0E7B-4640-8AF8-40236502F0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7B977-5D19-4628-B37E-ECA3027311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장 정서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-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행동장애아 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1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정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 시행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서장애에 자폐를 포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체 정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장애 아동협회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자폐시민협회의 자폐증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증과 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등에 대한 특수교육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원인 및 출현율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서와 행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각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0.55%, 0.15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생물학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손상과 뇌기능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가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3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분류체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열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으로 부적절하거나 미숙한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 위축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공격적인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국 정신의학회의 정신장애진단 및 통계편람</a:t>
            </a: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(DSM-IV)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전반적 발달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주의력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결핍 및 파괴적 행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유아기 또는 초기 아동기 급식 및 섭식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틱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배설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리불안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선택적 함묵증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애착장애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운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통계적 분류체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외부지향성 및 내부지향성 행동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4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 정서행동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적응행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업성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폐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극 과잉선택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낮은 동기유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기자극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강화와 결과에 대한 독특한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5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진단평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선별검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검목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checklist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투사검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접 관찰과 행동 측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 및 중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계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 행동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물 치료와 교육의 병행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 하세요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3" name="Picture 4" descr="MCj04042630000[1]"/>
          <p:cNvPicPr/>
          <p:nvPr/>
        </p:nvPicPr>
        <p:blipFill>
          <a:blip r:embed="rId1"/>
          <a:stretch/>
        </p:blipFill>
        <p:spPr>
          <a:xfrm>
            <a:off x="2627280" y="1844640"/>
            <a:ext cx="43927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15:10:29Z</dcterms:created>
  <dc:creator>.</dc:creator>
  <dc:description/>
  <dc:language>en-US</dc:language>
  <cp:lastModifiedBy>sec</cp:lastModifiedBy>
  <dcterms:modified xsi:type="dcterms:W3CDTF">2010-01-11T00:15:28Z</dcterms:modified>
  <cp:revision>8</cp:revision>
  <dc:subject/>
  <dc:title>제 6장 사회교과교육</dc:title>
</cp:coreProperties>
</file>